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B0C-7C95-4D4C-9C4C-AF2F6CCF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247-4D05-41DC-B68C-4E6AA311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112-1955-46BF-BF49-C3718BD2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D6B-988A-41F3-871C-AA9E40D7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85D-CA46-4F65-8AA5-383D983C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3A9-0937-4FFF-8C4D-1C09DCE0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2A4-9ACC-4EF6-B6A4-AA2D2417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3F5-1371-4CF6-8F7C-DCC0BB71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0BBD-54A0-43D0-864B-DFDCBCB9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6653-2153-456C-A310-D882DD78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9B3-2DAB-4459-8F68-82135804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857-3186-465A-9D75-B1A74AF7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94C28-651C-4C8D-A472-F3AF2EDA8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6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4.png"/><Relationship Id="rId23" Type="http://schemas.openxmlformats.org/officeDocument/2006/relationships/image" Target="../media/image5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14.png"/><Relationship Id="rId27" Type="http://schemas.openxmlformats.org/officeDocument/2006/relationships/image" Target="../media/image9.png"/><Relationship Id="rId28" Type="http://schemas.openxmlformats.org/officeDocument/2006/relationships/image" Target="../media/image10.png"/><Relationship Id="rId29" Type="http://schemas.openxmlformats.org/officeDocument/2006/relationships/image" Target="../media/image15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18.png"/><Relationship Id="rId3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6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4.png"/><Relationship Id="rId23" Type="http://schemas.openxmlformats.org/officeDocument/2006/relationships/image" Target="../media/image5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14.png"/><Relationship Id="rId27" Type="http://schemas.openxmlformats.org/officeDocument/2006/relationships/image" Target="../media/image9.png"/><Relationship Id="rId28" Type="http://schemas.openxmlformats.org/officeDocument/2006/relationships/image" Target="../media/image10.png"/><Relationship Id="rId29" Type="http://schemas.openxmlformats.org/officeDocument/2006/relationships/image" Target="../media/image15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18.png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38960" y="5546880"/>
            <a:ext cx="3570120" cy="965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05200" y="436680"/>
            <a:ext cx="4417920" cy="907920"/>
          </a:xfrm>
          <a:prstGeom prst="rect">
            <a:avLst/>
          </a:prstGeom>
          <a:solidFill>
            <a:srgbClr val="94bd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mft1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70480" y="1735200"/>
            <a:ext cx="3489480" cy="1147680"/>
          </a:xfrm>
          <a:prstGeom prst="rect">
            <a:avLst/>
          </a:prstGeom>
          <a:solidFill>
            <a:srgbClr val="94bd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urity solv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QMC,OCA,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40200" y="3746520"/>
            <a:ext cx="5023080" cy="1103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mft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3560" y="3763800"/>
            <a:ext cx="3548160" cy="1076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w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32280" y="6585120"/>
            <a:ext cx="4792680" cy="861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x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5199120"/>
            <a:ext cx="3019320" cy="1093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w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1520" y="1911240"/>
            <a:ext cx="3533760" cy="871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mft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944800" y="843120"/>
            <a:ext cx="4341960" cy="495000"/>
            <a:chOff x="2944800" y="843120"/>
            <a:chExt cx="4341960" cy="495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6114960" y="928800"/>
              <a:ext cx="6098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6727680" y="979560"/>
              <a:ext cx="55908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5400720" y="966960"/>
              <a:ext cx="677880" cy="32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4284720" y="911160"/>
              <a:ext cx="6969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5"/>
            <a:stretch/>
          </p:blipFill>
          <p:spPr>
            <a:xfrm>
              <a:off x="3587760" y="895320"/>
              <a:ext cx="65880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2944800" y="952560"/>
              <a:ext cx="63360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983120" y="1141560"/>
              <a:ext cx="395280" cy="1440"/>
            </a:xfrm>
            <a:prstGeom prst="line">
              <a:avLst/>
            </a:prstGeom>
            <a:ln w="54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49520" y="851040"/>
              <a:ext cx="279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45160" y="851040"/>
              <a:ext cx="279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34240" y="851040"/>
              <a:ext cx="279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78440" y="843120"/>
              <a:ext cx="279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354720" y="2314440"/>
            <a:ext cx="3262320" cy="487440"/>
            <a:chOff x="6354720" y="2314440"/>
            <a:chExt cx="3262320" cy="487440"/>
          </a:xfrm>
        </p:grpSpPr>
        <p:grpSp>
          <p:nvGrpSpPr>
            <p:cNvPr id="62" name=""/>
            <p:cNvGrpSpPr/>
            <p:nvPr/>
          </p:nvGrpSpPr>
          <p:grpSpPr>
            <a:xfrm>
              <a:off x="6354720" y="2314440"/>
              <a:ext cx="3262320" cy="487440"/>
              <a:chOff x="6354720" y="2314440"/>
              <a:chExt cx="3262320" cy="487440"/>
            </a:xfrm>
          </p:grpSpPr>
          <p:pic>
            <p:nvPicPr>
              <p:cNvPr id="6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354720" y="2411280"/>
                <a:ext cx="609480" cy="35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989760" y="2441520"/>
                <a:ext cx="558720" cy="31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939160" y="2428920"/>
                <a:ext cx="677880" cy="32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319960" y="2414520"/>
                <a:ext cx="633600" cy="32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764480" y="2603520"/>
                <a:ext cx="395280" cy="1440"/>
              </a:xfrm>
              <a:prstGeom prst="line">
                <a:avLst/>
              </a:prstGeom>
              <a:ln w="547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808680" y="231444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8788320" y="231444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13280" y="4232160"/>
            <a:ext cx="4911840" cy="495360"/>
            <a:chOff x="4913280" y="4232160"/>
            <a:chExt cx="4911840" cy="495360"/>
          </a:xfrm>
        </p:grpSpPr>
        <p:pic>
          <p:nvPicPr>
            <p:cNvPr id="71" name="" descr=""/>
            <p:cNvPicPr/>
            <p:nvPr/>
          </p:nvPicPr>
          <p:blipFill>
            <a:blip r:embed="rId11"/>
            <a:stretch/>
          </p:blipFill>
          <p:spPr>
            <a:xfrm>
              <a:off x="6251400" y="4300560"/>
              <a:ext cx="6969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12"/>
            <a:stretch/>
          </p:blipFill>
          <p:spPr>
            <a:xfrm>
              <a:off x="5556240" y="4282920"/>
              <a:ext cx="65880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3"/>
            <a:stretch/>
          </p:blipFill>
          <p:spPr>
            <a:xfrm>
              <a:off x="4913280" y="4341960"/>
              <a:ext cx="63360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950160" y="4530600"/>
              <a:ext cx="395280" cy="1800"/>
            </a:xfrm>
            <a:prstGeom prst="line">
              <a:avLst/>
            </a:prstGeom>
            <a:ln w="54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16560" y="424008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693280" y="424008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45120" y="423216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4"/>
            <a:stretch/>
          </p:blipFill>
          <p:spPr>
            <a:xfrm>
              <a:off x="8891640" y="4349880"/>
              <a:ext cx="93348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5"/>
            <a:stretch/>
          </p:blipFill>
          <p:spPr>
            <a:xfrm>
              <a:off x="7591320" y="4305240"/>
              <a:ext cx="1212840" cy="3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"/>
          <p:cNvGrpSpPr/>
          <p:nvPr/>
        </p:nvGrpSpPr>
        <p:grpSpPr>
          <a:xfrm>
            <a:off x="6531120" y="5740560"/>
            <a:ext cx="3476520" cy="544320"/>
            <a:chOff x="6531120" y="5740560"/>
            <a:chExt cx="3476520" cy="544320"/>
          </a:xfrm>
        </p:grpSpPr>
        <p:pic>
          <p:nvPicPr>
            <p:cNvPr id="81" name="" descr=""/>
            <p:cNvPicPr/>
            <p:nvPr/>
          </p:nvPicPr>
          <p:blipFill>
            <a:blip r:embed="rId16"/>
            <a:stretch/>
          </p:blipFill>
          <p:spPr>
            <a:xfrm>
              <a:off x="7338960" y="5908680"/>
              <a:ext cx="78264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17"/>
            <a:stretch/>
          </p:blipFill>
          <p:spPr>
            <a:xfrm>
              <a:off x="6531120" y="5911920"/>
              <a:ext cx="801720" cy="2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186680" y="579744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239400" y="5740560"/>
              <a:ext cx="279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8"/>
            <a:stretch/>
          </p:blipFill>
          <p:spPr>
            <a:xfrm>
              <a:off x="8512200" y="5897520"/>
              <a:ext cx="85716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19"/>
            <a:stretch/>
          </p:blipFill>
          <p:spPr>
            <a:xfrm>
              <a:off x="9416880" y="5869080"/>
              <a:ext cx="590760" cy="2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8137440" y="6053040"/>
              <a:ext cx="395280" cy="1800"/>
            </a:xfrm>
            <a:prstGeom prst="line">
              <a:avLst/>
            </a:prstGeom>
            <a:ln w="54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117960" y="6832440"/>
            <a:ext cx="4646520" cy="390600"/>
            <a:chOff x="3117960" y="6832440"/>
            <a:chExt cx="4646520" cy="390600"/>
          </a:xfrm>
        </p:grpSpPr>
        <p:pic>
          <p:nvPicPr>
            <p:cNvPr id="89" name="" descr=""/>
            <p:cNvPicPr/>
            <p:nvPr/>
          </p:nvPicPr>
          <p:blipFill>
            <a:blip r:embed="rId20"/>
            <a:stretch/>
          </p:blipFill>
          <p:spPr>
            <a:xfrm>
              <a:off x="3117960" y="6832440"/>
              <a:ext cx="325908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1"/>
            <a:stretch/>
          </p:blipFill>
          <p:spPr>
            <a:xfrm>
              <a:off x="6900840" y="6870600"/>
              <a:ext cx="863640" cy="3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477120" y="7027920"/>
              <a:ext cx="395280" cy="1440"/>
            </a:xfrm>
            <a:prstGeom prst="line">
              <a:avLst/>
            </a:prstGeom>
            <a:ln w="54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04800" y="4156200"/>
            <a:ext cx="3416400" cy="546120"/>
            <a:chOff x="604800" y="4156200"/>
            <a:chExt cx="3416400" cy="546120"/>
          </a:xfrm>
        </p:grpSpPr>
        <p:pic>
          <p:nvPicPr>
            <p:cNvPr id="93" name="" descr=""/>
            <p:cNvPicPr/>
            <p:nvPr/>
          </p:nvPicPr>
          <p:blipFill>
            <a:blip r:embed="rId22"/>
            <a:stretch/>
          </p:blipFill>
          <p:spPr>
            <a:xfrm>
              <a:off x="3324240" y="4281480"/>
              <a:ext cx="6969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3"/>
            <a:stretch/>
          </p:blipFill>
          <p:spPr>
            <a:xfrm>
              <a:off x="2627280" y="4265640"/>
              <a:ext cx="65880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116160" y="421488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04800" y="4156200"/>
              <a:ext cx="1590840" cy="487080"/>
              <a:chOff x="604800" y="4156200"/>
              <a:chExt cx="1590840" cy="487080"/>
            </a:xfrm>
          </p:grpSpPr>
          <p:sp>
            <p:nvSpPr>
              <p:cNvPr id="97" name=""/>
              <p:cNvSpPr/>
              <p:nvPr/>
            </p:nvSpPr>
            <p:spPr>
              <a:xfrm>
                <a:off x="1276200" y="4156200"/>
                <a:ext cx="2797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1413000" y="4308480"/>
                <a:ext cx="782640" cy="31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604800" y="4313160"/>
                <a:ext cx="801720" cy="289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"/>
            <p:cNvSpPr/>
            <p:nvPr/>
          </p:nvSpPr>
          <p:spPr>
            <a:xfrm>
              <a:off x="2233440" y="4457880"/>
              <a:ext cx="395640" cy="1440"/>
            </a:xfrm>
            <a:prstGeom prst="line">
              <a:avLst/>
            </a:prstGeom>
            <a:ln w="54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93800" y="5586480"/>
            <a:ext cx="2936880" cy="487440"/>
            <a:chOff x="793800" y="5586480"/>
            <a:chExt cx="2936880" cy="487440"/>
          </a:xfrm>
        </p:grpSpPr>
        <p:pic>
          <p:nvPicPr>
            <p:cNvPr id="102" name="" descr=""/>
            <p:cNvPicPr/>
            <p:nvPr/>
          </p:nvPicPr>
          <p:blipFill>
            <a:blip r:embed="rId26"/>
            <a:stretch/>
          </p:blipFill>
          <p:spPr>
            <a:xfrm>
              <a:off x="793800" y="5735520"/>
              <a:ext cx="863640" cy="3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706400" y="5877000"/>
              <a:ext cx="395280" cy="1440"/>
            </a:xfrm>
            <a:prstGeom prst="line">
              <a:avLst/>
            </a:prstGeom>
            <a:ln w="54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2139840" y="5586480"/>
              <a:ext cx="1590840" cy="487440"/>
              <a:chOff x="2139840" y="5586480"/>
              <a:chExt cx="1590840" cy="487440"/>
            </a:xfrm>
          </p:grpSpPr>
          <p:sp>
            <p:nvSpPr>
              <p:cNvPr id="105" name=""/>
              <p:cNvSpPr/>
              <p:nvPr/>
            </p:nvSpPr>
            <p:spPr>
              <a:xfrm>
                <a:off x="2811600" y="558648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2948040" y="5737320"/>
                <a:ext cx="782640" cy="31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2139840" y="5742000"/>
                <a:ext cx="801720" cy="289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8" name=""/>
          <p:cNvGrpSpPr/>
          <p:nvPr/>
        </p:nvGrpSpPr>
        <p:grpSpPr>
          <a:xfrm>
            <a:off x="115920" y="2298600"/>
            <a:ext cx="3500280" cy="514440"/>
            <a:chOff x="115920" y="2298600"/>
            <a:chExt cx="3500280" cy="514440"/>
          </a:xfrm>
        </p:grpSpPr>
        <p:pic>
          <p:nvPicPr>
            <p:cNvPr id="109" name="" descr=""/>
            <p:cNvPicPr/>
            <p:nvPr/>
          </p:nvPicPr>
          <p:blipFill>
            <a:blip r:embed="rId29"/>
            <a:stretch/>
          </p:blipFill>
          <p:spPr>
            <a:xfrm>
              <a:off x="3398760" y="2468520"/>
              <a:ext cx="217440" cy="2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0"/>
            <a:stretch/>
          </p:blipFill>
          <p:spPr>
            <a:xfrm>
              <a:off x="1454040" y="2367000"/>
              <a:ext cx="6969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1"/>
            <a:stretch/>
          </p:blipFill>
          <p:spPr>
            <a:xfrm>
              <a:off x="758880" y="2349360"/>
              <a:ext cx="65880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2"/>
            <a:stretch/>
          </p:blipFill>
          <p:spPr>
            <a:xfrm>
              <a:off x="115920" y="2406600"/>
              <a:ext cx="63324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152800" y="2595600"/>
              <a:ext cx="395280" cy="1440"/>
            </a:xfrm>
            <a:prstGeom prst="line">
              <a:avLst/>
            </a:prstGeom>
            <a:ln w="54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9200" y="230652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47760" y="229860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33"/>
            <a:stretch/>
          </p:blipFill>
          <p:spPr>
            <a:xfrm>
              <a:off x="2538360" y="2378160"/>
              <a:ext cx="8463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220920" y="232560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8" name=""/>
          <p:cNvCxnSpPr>
            <a:stCxn id="42" idx="3"/>
            <a:endCxn id="43" idx="0"/>
          </p:cNvCxnSpPr>
          <p:nvPr/>
        </p:nvCxnSpPr>
        <p:spPr>
          <a:xfrm>
            <a:off x="7323120" y="890640"/>
            <a:ext cx="692280" cy="844920"/>
          </a:xfrm>
          <a:prstGeom prst="bentConnector2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4414680" y="2878200"/>
            <a:ext cx="3598920" cy="1289160"/>
          </a:xfrm>
          <a:custGeom>
            <a:avLst/>
            <a:gdLst/>
            <a:ahLst/>
            <a:rect l="l" t="t" r="r" b="b"/>
            <a:pathLst>
              <a:path w="9996" h="3580">
                <a:moveTo>
                  <a:pt x="9995" y="0"/>
                </a:moveTo>
                <a:lnTo>
                  <a:pt x="9995" y="1269"/>
                </a:lnTo>
                <a:lnTo>
                  <a:pt x="0" y="1244"/>
                </a:lnTo>
                <a:lnTo>
                  <a:pt x="0" y="3579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0560" y="1352520"/>
            <a:ext cx="567000" cy="1974960"/>
          </a:xfrm>
          <a:custGeom>
            <a:avLst/>
            <a:gdLst/>
            <a:ahLst/>
            <a:rect l="l" t="t" r="r" b="b"/>
            <a:pathLst>
              <a:path w="1575" h="5485">
                <a:moveTo>
                  <a:pt x="1574" y="5484"/>
                </a:moveTo>
                <a:lnTo>
                  <a:pt x="0" y="5484"/>
                </a:lnTo>
                <a:lnTo>
                  <a:pt x="0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627000" y="2430360"/>
            <a:ext cx="414360" cy="1800"/>
          </a:xfrm>
          <a:prstGeom prst="line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7080" y="2265480"/>
            <a:ext cx="411120" cy="1440"/>
          </a:xfrm>
          <a:prstGeom prst="line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40280" y="4305240"/>
            <a:ext cx="814320" cy="1800"/>
          </a:xfrm>
          <a:prstGeom prst="line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endCxn id="41" idx="0"/>
          </p:cNvCxnSpPr>
          <p:nvPr/>
        </p:nvCxnSpPr>
        <p:spPr>
          <a:xfrm rot="5400000">
            <a:off x="7881840" y="5204160"/>
            <a:ext cx="685080" cy="1080"/>
          </a:xfrm>
          <a:prstGeom prst="bentConnector3">
            <a:avLst>
              <a:gd name="adj1" fmla="val 33070"/>
            </a:avLst>
          </a:prstGeom>
          <a:ln w="7308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5" name=""/>
          <p:cNvCxnSpPr>
            <a:stCxn id="41" idx="2"/>
            <a:endCxn id="46" idx="3"/>
          </p:cNvCxnSpPr>
          <p:nvPr/>
        </p:nvCxnSpPr>
        <p:spPr>
          <a:xfrm rot="5400000">
            <a:off x="7772400" y="6564600"/>
            <a:ext cx="504360" cy="399240"/>
          </a:xfrm>
          <a:prstGeom prst="bentConnector2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6" name=""/>
          <p:cNvCxnSpPr>
            <a:stCxn id="46" idx="1"/>
            <a:endCxn id="47" idx="2"/>
          </p:cNvCxnSpPr>
          <p:nvPr/>
        </p:nvCxnSpPr>
        <p:spPr>
          <a:xfrm rot="10800000">
            <a:off x="2264760" y="6292440"/>
            <a:ext cx="767520" cy="723600"/>
          </a:xfrm>
          <a:prstGeom prst="bentConnector2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7" name=""/>
          <p:cNvCxnSpPr>
            <a:stCxn id="47" idx="0"/>
            <a:endCxn id="45" idx="2"/>
          </p:cNvCxnSpPr>
          <p:nvPr/>
        </p:nvCxnSpPr>
        <p:spPr>
          <a:xfrm flipH="1" flipV="1" rot="5400000">
            <a:off x="2086560" y="5018400"/>
            <a:ext cx="359280" cy="2880"/>
          </a:xfrm>
          <a:prstGeom prst="bentConnector3">
            <a:avLst>
              <a:gd name="adj1" fmla="val 49949"/>
            </a:avLst>
          </a:prstGeom>
          <a:ln w="730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flipH="1">
            <a:off x="5563800" y="3333600"/>
            <a:ext cx="414360" cy="1800"/>
          </a:xfrm>
          <a:prstGeom prst="line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05320" y="3879720"/>
            <a:ext cx="1440" cy="400320"/>
          </a:xfrm>
          <a:prstGeom prst="line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233960" y="3369960"/>
            <a:ext cx="1440" cy="880920"/>
          </a:xfrm>
          <a:prstGeom prst="line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05320" y="2887560"/>
            <a:ext cx="3610080" cy="1417680"/>
          </a:xfrm>
          <a:custGeom>
            <a:avLst/>
            <a:gdLst/>
            <a:ahLst/>
            <a:rect l="l" t="t" r="r" b="b"/>
            <a:pathLst>
              <a:path w="10029" h="3936">
                <a:moveTo>
                  <a:pt x="10028" y="0"/>
                </a:moveTo>
                <a:lnTo>
                  <a:pt x="10028" y="1219"/>
                </a:lnTo>
                <a:lnTo>
                  <a:pt x="0" y="1219"/>
                </a:lnTo>
                <a:lnTo>
                  <a:pt x="25" y="3935"/>
                </a:lnTo>
                <a:lnTo>
                  <a:pt x="1142" y="3935"/>
                </a:lnTo>
              </a:path>
            </a:pathLst>
          </a:custGeom>
          <a:noFill/>
          <a:ln w="27360">
            <a:solidFill>
              <a:srgbClr val="ffb5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26360" y="4853160"/>
            <a:ext cx="1800" cy="666720"/>
          </a:xfrm>
          <a:prstGeom prst="line">
            <a:avLst/>
          </a:prstGeom>
          <a:ln w="27360">
            <a:solidFill>
              <a:srgbClr val="ffb5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86880" y="6516720"/>
            <a:ext cx="338040" cy="503280"/>
          </a:xfrm>
          <a:custGeom>
            <a:avLst/>
            <a:gdLst/>
            <a:ahLst/>
            <a:rect l="l" t="t" r="r" b="b"/>
            <a:pathLst>
              <a:path w="941" h="1397">
                <a:moveTo>
                  <a:pt x="940" y="0"/>
                </a:moveTo>
                <a:lnTo>
                  <a:pt x="940" y="1396"/>
                </a:lnTo>
                <a:lnTo>
                  <a:pt x="0" y="1396"/>
                </a:lnTo>
              </a:path>
            </a:pathLst>
          </a:custGeom>
          <a:noFill/>
          <a:ln w="27360">
            <a:solidFill>
              <a:srgbClr val="ffb5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66920" y="6370560"/>
            <a:ext cx="758880" cy="649440"/>
          </a:xfrm>
          <a:custGeom>
            <a:avLst/>
            <a:gdLst/>
            <a:ahLst/>
            <a:rect l="l" t="t" r="r" b="b"/>
            <a:pathLst>
              <a:path w="2108" h="1803">
                <a:moveTo>
                  <a:pt x="2107" y="1802"/>
                </a:moveTo>
                <a:lnTo>
                  <a:pt x="0" y="1802"/>
                </a:lnTo>
                <a:lnTo>
                  <a:pt x="0" y="0"/>
                </a:lnTo>
              </a:path>
            </a:pathLst>
          </a:custGeom>
          <a:noFill/>
          <a:ln w="27360">
            <a:solidFill>
              <a:srgbClr val="ffb5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6920" y="4916520"/>
            <a:ext cx="1440" cy="274680"/>
          </a:xfrm>
          <a:custGeom>
            <a:avLst/>
            <a:gdLst/>
            <a:ahLst/>
            <a:rect l="l" t="t" r="r" b="b"/>
            <a:pathLst>
              <a:path w="1" h="763">
                <a:moveTo>
                  <a:pt x="0" y="762"/>
                </a:moveTo>
                <a:lnTo>
                  <a:pt x="0" y="51"/>
                </a:lnTo>
                <a:lnTo>
                  <a:pt x="0" y="0"/>
                </a:lnTo>
              </a:path>
            </a:pathLst>
          </a:custGeom>
          <a:noFill/>
          <a:ln w="27360">
            <a:solidFill>
              <a:srgbClr val="ffb5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0560" y="1333440"/>
            <a:ext cx="201600" cy="2979720"/>
          </a:xfrm>
          <a:custGeom>
            <a:avLst/>
            <a:gdLst/>
            <a:ahLst/>
            <a:rect l="l" t="t" r="r" b="b"/>
            <a:pathLst>
              <a:path w="559" h="8277">
                <a:moveTo>
                  <a:pt x="25" y="8226"/>
                </a:moveTo>
                <a:lnTo>
                  <a:pt x="558" y="8276"/>
                </a:lnTo>
                <a:lnTo>
                  <a:pt x="558" y="5535"/>
                </a:lnTo>
                <a:lnTo>
                  <a:pt x="0" y="5560"/>
                </a:lnTo>
                <a:lnTo>
                  <a:pt x="0" y="0"/>
                </a:lnTo>
              </a:path>
            </a:pathLst>
          </a:custGeom>
          <a:noFill/>
          <a:ln w="27360">
            <a:solidFill>
              <a:srgbClr val="ffb5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11960" y="885960"/>
            <a:ext cx="704880" cy="731880"/>
          </a:xfrm>
          <a:custGeom>
            <a:avLst/>
            <a:gdLst/>
            <a:ahLst/>
            <a:rect l="l" t="t" r="r" b="b"/>
            <a:pathLst>
              <a:path w="1956" h="2032">
                <a:moveTo>
                  <a:pt x="0" y="0"/>
                </a:moveTo>
                <a:lnTo>
                  <a:pt x="1955" y="0"/>
                </a:lnTo>
                <a:lnTo>
                  <a:pt x="1955" y="2031"/>
                </a:lnTo>
              </a:path>
            </a:pathLst>
          </a:custGeom>
          <a:noFill/>
          <a:ln w="27360">
            <a:solidFill>
              <a:srgbClr val="ffb5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360" y="6443640"/>
            <a:ext cx="1737000" cy="10317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4"/>
          <a:stretch/>
        </p:blipFill>
        <p:spPr>
          <a:xfrm>
            <a:off x="96840" y="7145280"/>
            <a:ext cx="1417680" cy="314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5"/>
          <a:stretch/>
        </p:blipFill>
        <p:spPr>
          <a:xfrm>
            <a:off x="112680" y="6753240"/>
            <a:ext cx="963720" cy="422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28800" y="7010280"/>
            <a:ext cx="411120" cy="1800"/>
          </a:xfrm>
          <a:prstGeom prst="line">
            <a:avLst/>
          </a:prstGeom>
          <a:ln w="547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65240" y="6335640"/>
            <a:ext cx="4425840" cy="908280"/>
            <a:chOff x="165240" y="6335640"/>
            <a:chExt cx="4425840" cy="908280"/>
          </a:xfrm>
        </p:grpSpPr>
        <p:sp>
          <p:nvSpPr>
            <p:cNvPr id="143" name=""/>
            <p:cNvSpPr/>
            <p:nvPr/>
          </p:nvSpPr>
          <p:spPr>
            <a:xfrm>
              <a:off x="165240" y="6335640"/>
              <a:ext cx="4417920" cy="908280"/>
            </a:xfrm>
            <a:prstGeom prst="rect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mft1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50920" y="6678720"/>
              <a:ext cx="4340160" cy="495360"/>
              <a:chOff x="250920" y="6678720"/>
              <a:chExt cx="4340160" cy="495360"/>
            </a:xfrm>
          </p:grpSpPr>
          <p:pic>
            <p:nvPicPr>
              <p:cNvPr id="1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21080" y="6762600"/>
                <a:ext cx="609480" cy="35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32360" y="6813720"/>
                <a:ext cx="558720" cy="31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6800760"/>
                <a:ext cx="677880" cy="32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590840" y="6745320"/>
                <a:ext cx="69660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93880" y="6729480"/>
                <a:ext cx="65880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50920" y="6786720"/>
                <a:ext cx="633240" cy="32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2287440" y="6975360"/>
                <a:ext cx="395280" cy="1800"/>
              </a:xfrm>
              <a:prstGeom prst="line">
                <a:avLst/>
              </a:prstGeom>
              <a:ln w="547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55640" y="668664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851280" y="668664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238560" y="668664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82760" y="6678720"/>
                <a:ext cx="27936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6048360" y="6213600"/>
            <a:ext cx="3489480" cy="1147680"/>
            <a:chOff x="6048360" y="6213600"/>
            <a:chExt cx="3489480" cy="1147680"/>
          </a:xfrm>
        </p:grpSpPr>
        <p:sp>
          <p:nvSpPr>
            <p:cNvPr id="157" name=""/>
            <p:cNvSpPr/>
            <p:nvPr/>
          </p:nvSpPr>
          <p:spPr>
            <a:xfrm>
              <a:off x="6048360" y="6213600"/>
              <a:ext cx="3489480" cy="1147680"/>
            </a:xfrm>
            <a:prstGeom prst="rect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purity solver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TQMC,OCA,N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132600" y="6791400"/>
              <a:ext cx="3262320" cy="487440"/>
              <a:chOff x="6132600" y="6791400"/>
              <a:chExt cx="3262320" cy="48744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6132600" y="6791400"/>
                <a:ext cx="3262320" cy="487440"/>
                <a:chOff x="6132600" y="6791400"/>
                <a:chExt cx="3262320" cy="487440"/>
              </a:xfrm>
            </p:grpSpPr>
            <p:pic>
              <p:nvPicPr>
                <p:cNvPr id="16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32600" y="6888240"/>
                  <a:ext cx="60948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769080" y="6918480"/>
                  <a:ext cx="558720" cy="314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717040" y="6905520"/>
                  <a:ext cx="677880" cy="32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097840" y="6892920"/>
                  <a:ext cx="633240" cy="32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>
                  <a:off x="7543800" y="7081920"/>
                  <a:ext cx="395280" cy="1440"/>
                </a:xfrm>
                <a:prstGeom prst="line">
                  <a:avLst/>
                </a:prstGeom>
                <a:ln w="547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586560" y="6791400"/>
                  <a:ext cx="27936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,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8566200" y="679140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2587680" y="3470400"/>
            <a:ext cx="5022720" cy="1103040"/>
            <a:chOff x="2587680" y="3470400"/>
            <a:chExt cx="5022720" cy="1103040"/>
          </a:xfrm>
        </p:grpSpPr>
        <p:sp>
          <p:nvSpPr>
            <p:cNvPr id="168" name=""/>
            <p:cNvSpPr/>
            <p:nvPr/>
          </p:nvSpPr>
          <p:spPr>
            <a:xfrm>
              <a:off x="2587680" y="3470400"/>
              <a:ext cx="5022720" cy="1103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mft2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660760" y="3956040"/>
              <a:ext cx="4911480" cy="495360"/>
              <a:chOff x="2660760" y="3956040"/>
              <a:chExt cx="4911480" cy="495360"/>
            </a:xfrm>
          </p:grpSpPr>
          <p:pic>
            <p:nvPicPr>
              <p:cNvPr id="17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998880" y="4024440"/>
                <a:ext cx="6969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03720" y="4008600"/>
                <a:ext cx="65880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60760" y="4065480"/>
                <a:ext cx="633240" cy="32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4697280" y="4254480"/>
                <a:ext cx="395280" cy="1440"/>
              </a:xfrm>
              <a:prstGeom prst="line">
                <a:avLst/>
              </a:prstGeom>
              <a:ln w="547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64040" y="396396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440400" y="396396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792600" y="395604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638760" y="4075200"/>
                <a:ext cx="933480" cy="29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338800" y="4029120"/>
                <a:ext cx="1212840" cy="35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9" name=""/>
          <p:cNvGrpSpPr/>
          <p:nvPr/>
        </p:nvGrpSpPr>
        <p:grpSpPr>
          <a:xfrm>
            <a:off x="6245280" y="1936800"/>
            <a:ext cx="3570120" cy="965160"/>
            <a:chOff x="6245280" y="1936800"/>
            <a:chExt cx="3570120" cy="965160"/>
          </a:xfrm>
        </p:grpSpPr>
        <p:sp>
          <p:nvSpPr>
            <p:cNvPr id="180" name=""/>
            <p:cNvSpPr/>
            <p:nvPr/>
          </p:nvSpPr>
          <p:spPr>
            <a:xfrm>
              <a:off x="6245280" y="1936800"/>
              <a:ext cx="3570120" cy="965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r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338880" y="2130480"/>
              <a:ext cx="3476520" cy="544320"/>
              <a:chOff x="6338880" y="2130480"/>
              <a:chExt cx="3476520" cy="544320"/>
            </a:xfrm>
          </p:grpSpPr>
          <p:pic>
            <p:nvPicPr>
              <p:cNvPr id="18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147080" y="2298600"/>
                <a:ext cx="782640" cy="31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338880" y="2301840"/>
                <a:ext cx="801720" cy="28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6993000" y="2187720"/>
                <a:ext cx="27936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47160" y="213048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6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8319960" y="2287440"/>
                <a:ext cx="857520" cy="26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9225000" y="2259000"/>
                <a:ext cx="590400" cy="2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7945560" y="2443320"/>
                <a:ext cx="395280" cy="1440"/>
              </a:xfrm>
              <a:prstGeom prst="line">
                <a:avLst/>
              </a:prstGeom>
              <a:ln w="547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6378480" y="243000"/>
            <a:ext cx="3291120" cy="1347840"/>
            <a:chOff x="6378480" y="243000"/>
            <a:chExt cx="3291120" cy="1347840"/>
          </a:xfrm>
        </p:grpSpPr>
        <p:sp>
          <p:nvSpPr>
            <p:cNvPr id="190" name=""/>
            <p:cNvSpPr/>
            <p:nvPr/>
          </p:nvSpPr>
          <p:spPr>
            <a:xfrm>
              <a:off x="6378480" y="243000"/>
              <a:ext cx="3291120" cy="13478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xer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20"/>
            <a:stretch/>
          </p:blipFill>
          <p:spPr>
            <a:xfrm>
              <a:off x="6392880" y="600120"/>
              <a:ext cx="325908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21"/>
            <a:stretch/>
          </p:blipFill>
          <p:spPr>
            <a:xfrm>
              <a:off x="7754760" y="1260360"/>
              <a:ext cx="863640" cy="3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8116920" y="996840"/>
              <a:ext cx="1440" cy="274680"/>
            </a:xfrm>
            <a:prstGeom prst="line">
              <a:avLst/>
            </a:prstGeom>
            <a:ln w="54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35000" y="2100240"/>
            <a:ext cx="3548160" cy="1076400"/>
            <a:chOff x="135000" y="2100240"/>
            <a:chExt cx="3548160" cy="1076400"/>
          </a:xfrm>
        </p:grpSpPr>
        <p:sp>
          <p:nvSpPr>
            <p:cNvPr id="195" name=""/>
            <p:cNvSpPr/>
            <p:nvPr/>
          </p:nvSpPr>
          <p:spPr>
            <a:xfrm>
              <a:off x="135000" y="2100240"/>
              <a:ext cx="3548160" cy="1076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pw1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192240" y="2508120"/>
              <a:ext cx="3416040" cy="546120"/>
              <a:chOff x="192240" y="2508120"/>
              <a:chExt cx="3416040" cy="546120"/>
            </a:xfrm>
          </p:grpSpPr>
          <p:pic>
            <p:nvPicPr>
              <p:cNvPr id="197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2911320" y="2635200"/>
                <a:ext cx="6969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214720" y="2617920"/>
                <a:ext cx="658800" cy="3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2705040" y="2567160"/>
                <a:ext cx="27936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192240" y="2508120"/>
                <a:ext cx="1590480" cy="487440"/>
                <a:chOff x="192240" y="2508120"/>
                <a:chExt cx="1590480" cy="4874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863640" y="2508120"/>
                  <a:ext cx="27936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,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1000080" y="2660760"/>
                  <a:ext cx="782640" cy="314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192240" y="2665440"/>
                  <a:ext cx="8013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4" name=""/>
              <p:cNvSpPr/>
              <p:nvPr/>
            </p:nvSpPr>
            <p:spPr>
              <a:xfrm>
                <a:off x="1820880" y="2809800"/>
                <a:ext cx="395280" cy="1800"/>
              </a:xfrm>
              <a:prstGeom prst="line">
                <a:avLst/>
              </a:prstGeom>
              <a:ln w="547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2476440" y="369720"/>
            <a:ext cx="3019320" cy="1094040"/>
            <a:chOff x="2476440" y="369720"/>
            <a:chExt cx="3019320" cy="1094040"/>
          </a:xfrm>
        </p:grpSpPr>
        <p:sp>
          <p:nvSpPr>
            <p:cNvPr id="206" name=""/>
            <p:cNvSpPr/>
            <p:nvPr/>
          </p:nvSpPr>
          <p:spPr>
            <a:xfrm>
              <a:off x="2476440" y="369720"/>
              <a:ext cx="3019320" cy="1094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pw0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2513160" y="793800"/>
              <a:ext cx="2936880" cy="487440"/>
              <a:chOff x="2513160" y="793800"/>
              <a:chExt cx="2936880" cy="487440"/>
            </a:xfrm>
          </p:grpSpPr>
          <p:pic>
            <p:nvPicPr>
              <p:cNvPr id="208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2513160" y="942840"/>
                <a:ext cx="863280" cy="32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3425760" y="1084320"/>
                <a:ext cx="395280" cy="1440"/>
              </a:xfrm>
              <a:prstGeom prst="line">
                <a:avLst/>
              </a:prstGeom>
              <a:ln w="547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3859200" y="793800"/>
                <a:ext cx="1590840" cy="487440"/>
                <a:chOff x="3859200" y="793800"/>
                <a:chExt cx="1590840" cy="4874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530600" y="793800"/>
                  <a:ext cx="27936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,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1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4667400" y="946080"/>
                  <a:ext cx="782640" cy="314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3859200" y="949320"/>
                  <a:ext cx="80172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14" name=""/>
          <p:cNvGrpSpPr/>
          <p:nvPr/>
        </p:nvGrpSpPr>
        <p:grpSpPr>
          <a:xfrm>
            <a:off x="3753000" y="4951440"/>
            <a:ext cx="3533760" cy="903240"/>
            <a:chOff x="3753000" y="4951440"/>
            <a:chExt cx="3533760" cy="903240"/>
          </a:xfrm>
        </p:grpSpPr>
        <p:sp>
          <p:nvSpPr>
            <p:cNvPr id="215" name=""/>
            <p:cNvSpPr/>
            <p:nvPr/>
          </p:nvSpPr>
          <p:spPr>
            <a:xfrm>
              <a:off x="3753000" y="4951440"/>
              <a:ext cx="3533760" cy="871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mft0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765600" y="5338800"/>
              <a:ext cx="3500280" cy="515880"/>
              <a:chOff x="3765600" y="5338800"/>
              <a:chExt cx="3500280" cy="515880"/>
            </a:xfrm>
          </p:grpSpPr>
          <p:pic>
            <p:nvPicPr>
              <p:cNvPr id="217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7048440" y="5510160"/>
                <a:ext cx="217440" cy="24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5105520" y="5407200"/>
                <a:ext cx="69696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4408560" y="5391000"/>
                <a:ext cx="65880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3765600" y="5448240"/>
                <a:ext cx="633240" cy="32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5803920" y="5637240"/>
                <a:ext cx="395280" cy="1440"/>
              </a:xfrm>
              <a:prstGeom prst="line">
                <a:avLst/>
              </a:prstGeom>
              <a:ln w="547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270320" y="534816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98880" y="5338800"/>
                <a:ext cx="27972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4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6189840" y="5419800"/>
                <a:ext cx="84600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6870600" y="536724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71280" y="331920"/>
            <a:ext cx="1737000" cy="1158840"/>
            <a:chOff x="71280" y="331920"/>
            <a:chExt cx="1737000" cy="1158840"/>
          </a:xfrm>
        </p:grpSpPr>
        <p:sp>
          <p:nvSpPr>
            <p:cNvPr id="227" name=""/>
            <p:cNvSpPr/>
            <p:nvPr/>
          </p:nvSpPr>
          <p:spPr>
            <a:xfrm>
              <a:off x="71280" y="331920"/>
              <a:ext cx="1737000" cy="1158840"/>
            </a:xfrm>
            <a:prstGeom prst="rect">
              <a:avLst/>
            </a:prstGeom>
            <a:solidFill>
              <a:srgbClr val="e6e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" descr=""/>
            <p:cNvPicPr/>
            <p:nvPr/>
          </p:nvPicPr>
          <p:blipFill>
            <a:blip r:embed="rId34"/>
            <a:stretch/>
          </p:blipFill>
          <p:spPr>
            <a:xfrm>
              <a:off x="95400" y="1057320"/>
              <a:ext cx="141732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35"/>
            <a:stretch/>
          </p:blipFill>
          <p:spPr>
            <a:xfrm>
              <a:off x="111240" y="666720"/>
              <a:ext cx="963360" cy="4222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30" name=""/>
          <p:cNvCxnSpPr>
            <a:stCxn id="167" idx="3"/>
            <a:endCxn id="179" idx="2"/>
          </p:cNvCxnSpPr>
          <p:nvPr/>
        </p:nvCxnSpPr>
        <p:spPr>
          <a:xfrm flipV="1">
            <a:off x="7610040" y="2899800"/>
            <a:ext cx="421560" cy="1122840"/>
          </a:xfrm>
          <a:prstGeom prst="bentConnector3">
            <a:avLst>
              <a:gd name="adj1" fmla="val 50000"/>
            </a:avLst>
          </a:prstGeom>
          <a:ln w="54720">
            <a:solidFill>
              <a:srgbClr val="dc2300"/>
            </a:solidFill>
            <a:round/>
            <a:tailEnd len="med" type="triangle" w="med"/>
          </a:ln>
        </p:spPr>
      </p:cxnSp>
      <p:cxnSp>
        <p:nvCxnSpPr>
          <p:cNvPr id="231" name=""/>
          <p:cNvCxnSpPr>
            <a:stCxn id="179" idx="0"/>
            <a:endCxn id="189" idx="2"/>
          </p:cNvCxnSpPr>
          <p:nvPr/>
        </p:nvCxnSpPr>
        <p:spPr>
          <a:xfrm rot="10800000">
            <a:off x="8024040" y="1590120"/>
            <a:ext cx="7200" cy="344880"/>
          </a:xfrm>
          <a:prstGeom prst="bentConnector3">
            <a:avLst>
              <a:gd name="adj1" fmla="val 47368"/>
            </a:avLst>
          </a:prstGeom>
          <a:ln w="54720">
            <a:solidFill>
              <a:srgbClr val="dc2300"/>
            </a:solidFill>
            <a:round/>
            <a:tailEnd len="med" type="triangle" w="med"/>
          </a:ln>
        </p:spPr>
      </p:cxnSp>
      <p:cxnSp>
        <p:nvCxnSpPr>
          <p:cNvPr id="232" name=""/>
          <p:cNvCxnSpPr>
            <a:stCxn id="189" idx="1"/>
            <a:endCxn id="205" idx="3"/>
          </p:cNvCxnSpPr>
          <p:nvPr/>
        </p:nvCxnSpPr>
        <p:spPr>
          <a:xfrm flipV="1" rot="10800000">
            <a:off x="5493600" y="917280"/>
            <a:ext cx="883440" cy="2160"/>
          </a:xfrm>
          <a:prstGeom prst="bentConnector3">
            <a:avLst>
              <a:gd name="adj1" fmla="val 49979"/>
            </a:avLst>
          </a:prstGeom>
          <a:ln w="54720">
            <a:solidFill>
              <a:srgbClr val="dc2300"/>
            </a:solidFill>
            <a:round/>
            <a:tailEnd len="med" type="triangle" w="med"/>
          </a:ln>
        </p:spPr>
      </p:cxnSp>
      <p:cxnSp>
        <p:nvCxnSpPr>
          <p:cNvPr id="233" name=""/>
          <p:cNvCxnSpPr>
            <a:stCxn id="205" idx="2"/>
            <a:endCxn id="194" idx="0"/>
          </p:cNvCxnSpPr>
          <p:nvPr/>
        </p:nvCxnSpPr>
        <p:spPr>
          <a:xfrm flipV="1" rot="10800000">
            <a:off x="1907280" y="1464840"/>
            <a:ext cx="2077200" cy="635760"/>
          </a:xfrm>
          <a:prstGeom prst="bentConnector3">
            <a:avLst>
              <a:gd name="adj1" fmla="val 49991"/>
            </a:avLst>
          </a:prstGeom>
          <a:ln w="54720">
            <a:solidFill>
              <a:srgbClr val="dc2300"/>
            </a:solidFill>
            <a:round/>
            <a:tailEnd len="med" type="triangle" w="med"/>
          </a:ln>
        </p:spPr>
      </p:cxnSp>
      <p:cxnSp>
        <p:nvCxnSpPr>
          <p:cNvPr id="234" name=""/>
          <p:cNvCxnSpPr>
            <a:stCxn id="194" idx="2"/>
          </p:cNvCxnSpPr>
          <p:nvPr/>
        </p:nvCxnSpPr>
        <p:spPr>
          <a:xfrm>
            <a:off x="1907640" y="3174840"/>
            <a:ext cx="2520" cy="3131280"/>
          </a:xfrm>
          <a:prstGeom prst="bentConnector3">
            <a:avLst>
              <a:gd name="adj1" fmla="val 50000"/>
            </a:avLst>
          </a:prstGeom>
          <a:ln w="5472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35" name=""/>
          <p:cNvCxnSpPr>
            <a:stCxn id="142" idx="3"/>
            <a:endCxn id="156" idx="1"/>
          </p:cNvCxnSpPr>
          <p:nvPr/>
        </p:nvCxnSpPr>
        <p:spPr>
          <a:xfrm flipV="1">
            <a:off x="4592520" y="6786360"/>
            <a:ext cx="1458000" cy="3600"/>
          </a:xfrm>
          <a:prstGeom prst="bentConnector3">
            <a:avLst>
              <a:gd name="adj1" fmla="val 49987"/>
            </a:avLst>
          </a:prstGeom>
          <a:ln w="54720">
            <a:solidFill>
              <a:srgbClr val="198a8a"/>
            </a:solidFill>
            <a:round/>
            <a:tailEnd len="med" type="triangle" w="med"/>
          </a:ln>
        </p:spPr>
      </p:cxnSp>
      <p:cxnSp>
        <p:nvCxnSpPr>
          <p:cNvPr id="236" name=""/>
          <p:cNvCxnSpPr>
            <a:stCxn id="156" idx="3"/>
          </p:cNvCxnSpPr>
          <p:nvPr/>
        </p:nvCxnSpPr>
        <p:spPr>
          <a:xfrm rot="10800000">
            <a:off x="7612920" y="4176000"/>
            <a:ext cx="1924920" cy="2610720"/>
          </a:xfrm>
          <a:prstGeom prst="bentConnector3">
            <a:avLst>
              <a:gd name="adj1" fmla="val 50000"/>
            </a:avLst>
          </a:prstGeom>
          <a:ln w="5472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37" name=""/>
          <p:cNvCxnSpPr>
            <a:stCxn id="156" idx="3"/>
          </p:cNvCxnSpPr>
          <p:nvPr/>
        </p:nvCxnSpPr>
        <p:spPr>
          <a:xfrm rot="10800000">
            <a:off x="2120040" y="6304680"/>
            <a:ext cx="7417800" cy="482040"/>
          </a:xfrm>
          <a:prstGeom prst="bentConnector3">
            <a:avLst>
              <a:gd name="adj1" fmla="val 50000"/>
            </a:avLst>
          </a:prstGeom>
          <a:ln w="54720">
            <a:solidFill>
              <a:srgbClr val="008080"/>
            </a:solidFill>
            <a:round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 flipV="1">
            <a:off x="5492880" y="5819760"/>
            <a:ext cx="1440" cy="185760"/>
          </a:xfrm>
          <a:prstGeom prst="line">
            <a:avLst/>
          </a:prstGeom>
          <a:ln w="547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194" idx="2"/>
            <a:endCxn id="167" idx="1"/>
          </p:cNvCxnSpPr>
          <p:nvPr/>
        </p:nvCxnSpPr>
        <p:spPr>
          <a:xfrm>
            <a:off x="1908000" y="3174480"/>
            <a:ext cx="680400" cy="848520"/>
          </a:xfrm>
          <a:prstGeom prst="bentConnector3">
            <a:avLst>
              <a:gd name="adj1" fmla="val 49973"/>
            </a:avLst>
          </a:prstGeom>
          <a:ln w="54720">
            <a:solidFill>
              <a:srgbClr val="dc2300"/>
            </a:solidFill>
            <a:round/>
            <a:tailEnd len="med" type="triangle" w="med"/>
          </a:ln>
        </p:spPr>
      </p:cxnSp>
      <p:cxnSp>
        <p:nvCxnSpPr>
          <p:cNvPr id="240" name=""/>
          <p:cNvCxnSpPr>
            <a:stCxn id="226" idx="3"/>
            <a:endCxn id="205" idx="1"/>
          </p:cNvCxnSpPr>
          <p:nvPr/>
        </p:nvCxnSpPr>
        <p:spPr>
          <a:xfrm>
            <a:off x="1808280" y="911160"/>
            <a:ext cx="667440" cy="8640"/>
          </a:xfrm>
          <a:prstGeom prst="bentConnector3">
            <a:avLst>
              <a:gd name="adj1" fmla="val 49973"/>
            </a:avLst>
          </a:prstGeom>
          <a:ln w="3672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4587840" y="6040440"/>
            <a:ext cx="14320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DMFT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97560" y="1992240"/>
            <a:ext cx="1116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c90016"/>
                </a:solidFill>
                <a:latin typeface="Arial"/>
              </a:rPr>
              <a:t>DFT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452600" y="722160"/>
            <a:ext cx="7113600" cy="3930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503440" y="723960"/>
            <a:ext cx="4341960" cy="495360"/>
            <a:chOff x="2503440" y="723960"/>
            <a:chExt cx="4341960" cy="49536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5673600" y="809640"/>
              <a:ext cx="6098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2"/>
            <a:stretch/>
          </p:blipFill>
          <p:spPr>
            <a:xfrm>
              <a:off x="6286680" y="860400"/>
              <a:ext cx="55872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4959360" y="847800"/>
              <a:ext cx="677880" cy="3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4"/>
            <a:stretch/>
          </p:blipFill>
          <p:spPr>
            <a:xfrm>
              <a:off x="3843360" y="792000"/>
              <a:ext cx="6969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5"/>
            <a:stretch/>
          </p:blipFill>
          <p:spPr>
            <a:xfrm>
              <a:off x="3146400" y="774720"/>
              <a:ext cx="65880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6"/>
            <a:stretch/>
          </p:blipFill>
          <p:spPr>
            <a:xfrm>
              <a:off x="2503440" y="833400"/>
              <a:ext cx="63360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540320" y="1022400"/>
              <a:ext cx="395280" cy="1440"/>
            </a:xfrm>
            <a:prstGeom prst="line">
              <a:avLst/>
            </a:prstGeom>
            <a:ln w="54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08160" y="731880"/>
              <a:ext cx="2797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03800" y="73188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92880" y="73188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7080" y="72396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3139920" y="1444680"/>
            <a:ext cx="4429440" cy="3585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8"/>
          <a:stretch/>
        </p:blipFill>
        <p:spPr>
          <a:xfrm>
            <a:off x="2995560" y="1906560"/>
            <a:ext cx="5467320" cy="6685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9"/>
          <a:stretch/>
        </p:blipFill>
        <p:spPr>
          <a:xfrm>
            <a:off x="1693800" y="3122640"/>
            <a:ext cx="6432480" cy="687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0"/>
          <a:stretch/>
        </p:blipFill>
        <p:spPr>
          <a:xfrm>
            <a:off x="4094280" y="3575160"/>
            <a:ext cx="4167000" cy="888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708200" y="1444680"/>
            <a:ext cx="1131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36560" y="1873080"/>
            <a:ext cx="1347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-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S b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27280" y="2741760"/>
            <a:ext cx="3533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FT self-consistency cond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14760" y="291960"/>
            <a:ext cx="8748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mf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316160" y="676440"/>
            <a:ext cx="8372520" cy="561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139920" y="1444680"/>
            <a:ext cx="4429440" cy="3585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2995560" y="1906560"/>
            <a:ext cx="5467320" cy="668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708200" y="1444680"/>
            <a:ext cx="1131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36560" y="1873080"/>
            <a:ext cx="1347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-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S b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54120" y="4419720"/>
            <a:ext cx="2595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nce charge dens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14760" y="291960"/>
            <a:ext cx="8748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mf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478240" y="820800"/>
            <a:ext cx="4911480" cy="496800"/>
            <a:chOff x="2478240" y="820800"/>
            <a:chExt cx="4911480" cy="49680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3816360" y="888840"/>
              <a:ext cx="6969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4"/>
            <a:stretch/>
          </p:blipFill>
          <p:spPr>
            <a:xfrm>
              <a:off x="3121200" y="873000"/>
              <a:ext cx="65880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5"/>
            <a:stretch/>
          </p:blipFill>
          <p:spPr>
            <a:xfrm>
              <a:off x="2478240" y="930240"/>
              <a:ext cx="63324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4514760" y="1119240"/>
              <a:ext cx="395280" cy="1440"/>
            </a:xfrm>
            <a:prstGeom prst="line">
              <a:avLst/>
            </a:prstGeom>
            <a:ln w="54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81160" y="830160"/>
              <a:ext cx="2797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57880" y="83016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10080" y="82080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6"/>
            <a:stretch/>
          </p:blipFill>
          <p:spPr>
            <a:xfrm>
              <a:off x="6456240" y="939960"/>
              <a:ext cx="93348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7"/>
            <a:stretch/>
          </p:blipFill>
          <p:spPr>
            <a:xfrm>
              <a:off x="5156280" y="895320"/>
              <a:ext cx="1212840" cy="358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>
            <a:off x="1401840" y="4865760"/>
            <a:ext cx="8111880" cy="6811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9"/>
          <a:stretch/>
        </p:blipFill>
        <p:spPr>
          <a:xfrm>
            <a:off x="4413240" y="5665680"/>
            <a:ext cx="3986280" cy="397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546200" y="5691240"/>
            <a:ext cx="2674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energy contrib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625920" y="3054240"/>
            <a:ext cx="5797440" cy="4352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1"/>
          <a:stretch/>
        </p:blipFill>
        <p:spPr>
          <a:xfrm>
            <a:off x="4137120" y="3506760"/>
            <a:ext cx="3278160" cy="7002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461960" y="3079800"/>
            <a:ext cx="2152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FT eigen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79600" y="3656160"/>
            <a:ext cx="2527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emical potent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ristjan</dc:creator>
  <dc:description/>
  <dc:language>en-US</dc:language>
  <cp:lastModifiedBy>Kristjan</cp:lastModifiedBy>
  <cp:revision>0</cp:revision>
  <dc:subject/>
  <dc:title/>
</cp:coreProperties>
</file>